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3840" y="-360"/>
            <a:ext cx="298440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32480"/>
            <a:ext cx="29844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3840" y="9132480"/>
            <a:ext cx="2984400" cy="52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8F40-86E7-49EE-8A07-1FE425F6C18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60D1-1DDB-4709-9B60-6EA4D4033D3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D95-85A6-45BE-9191-1F5886474B3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7262-A0D8-47B2-A110-DF893263576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16EB-83B3-45A7-87DA-4949583B596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6DCC-0454-49EC-B0A9-BE3D2711C3C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A952B-A5DD-442A-A508-A2BD12BB2BC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FCBE-C80B-4D62-BC88-B2C3D231C60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2A874-C11C-47C6-AB50-A2EA33BF53D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818-6E18-4CDE-9F07-3F9861456DA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40839-9950-4680-97B2-EEC82787DBA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ED9A-F6C7-48CA-94F9-FE3A2C4285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A04B-A49C-4BDA-ADD1-74A6010F2C2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2028E-8FD6-481B-B397-7ADF797B53F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9D014-B3DD-416A-8BC4-4825203FDAA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DCCC-09A1-41AF-ABB0-99748A55469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439A-3306-4676-A441-6EE4B1AE863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68480" y="743040"/>
            <a:ext cx="4751280" cy="3564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9080" y="4603680"/>
            <a:ext cx="5050080" cy="430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903840" y="9132840"/>
            <a:ext cx="29844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7017D-4C37-4E9E-BFFE-5C5229080DD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6451-0904-4104-B622-77BB7F91B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2D37-2D2A-40CB-8B07-127EFC43C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D9E6-19CD-4480-AFB4-FADE9495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F4E3-A449-43F7-A62A-7BFD22328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C32-FDC3-4303-836B-5A09D7B42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3EF7A-2D82-4E38-88BD-6614BAF3A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598-7610-4498-894C-F9889FC2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4BA3-8D70-4D9F-A8EB-E9CDD7F5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3C76-3278-41C8-96C9-87FB4824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9446-8823-44F6-A271-67E328EB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8FA-EEBE-4C63-983B-80D27C34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573-540D-4C0E-AFDE-BA0A757B6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A776-1F06-4747-BFCA-30DC8CA38AE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ianozeta.it/Resources/mattoni.jpg" TargetMode="External"/><Relationship Id="rId2" Type="http://schemas.openxmlformats.org/officeDocument/2006/relationships/hyperlink" Target="http://www.pianozeta.it/Resources/mattoni.jpg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2"/>
          <p:cNvSpPr/>
          <p:nvPr/>
        </p:nvSpPr>
        <p:spPr>
          <a:xfrm>
            <a:off x="1523880" y="2743200"/>
            <a:ext cx="6096240" cy="3809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5029200" y="5334120"/>
            <a:ext cx="3886200" cy="581400"/>
          </a:xfrm>
          <a:prstGeom prst="rect">
            <a:avLst/>
          </a:prstGeom>
          <a:solidFill>
            <a:srgbClr val="00206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APPREND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457200" y="5257800"/>
            <a:ext cx="3733920" cy="58140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INSEGNA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590920" y="2743200"/>
            <a:ext cx="3962160" cy="5814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alibri"/>
              </a:rPr>
              <a:t>VALUT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6"/>
          <p:cNvSpPr/>
          <p:nvPr/>
        </p:nvSpPr>
        <p:spPr>
          <a:xfrm flipH="1">
            <a:off x="7391160" y="5181480"/>
            <a:ext cx="7596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7"/>
          <p:cNvSpPr/>
          <p:nvPr/>
        </p:nvSpPr>
        <p:spPr>
          <a:xfrm flipH="1">
            <a:off x="6553080" y="327672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8"/>
          <p:cNvSpPr/>
          <p:nvPr/>
        </p:nvSpPr>
        <p:spPr>
          <a:xfrm flipV="1">
            <a:off x="6705720" y="594360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600200" y="5105520"/>
            <a:ext cx="763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0"/>
          <p:cNvSpPr/>
          <p:nvPr/>
        </p:nvSpPr>
        <p:spPr>
          <a:xfrm flipV="1">
            <a:off x="2438280" y="3200400"/>
            <a:ext cx="15264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1"/>
          <p:cNvSpPr/>
          <p:nvPr/>
        </p:nvSpPr>
        <p:spPr>
          <a:xfrm flipH="1" flipV="1">
            <a:off x="2361960" y="5943600"/>
            <a:ext cx="15228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5712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Times New Roman"/>
              </a:rPr>
              <a:t>VALUTARE LE COMPETENZE: SFIDE APER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2643120" y="40006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COMPETE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Oval 2"/>
          <p:cNvSpPr/>
          <p:nvPr/>
        </p:nvSpPr>
        <p:spPr>
          <a:xfrm>
            <a:off x="7924680" y="4572000"/>
            <a:ext cx="914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"/>
          <p:cNvSpPr/>
          <p:nvPr/>
        </p:nvSpPr>
        <p:spPr>
          <a:xfrm>
            <a:off x="8001000" y="4572000"/>
            <a:ext cx="762120" cy="609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0" y="7621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l Consiglio comunale ha deciso di mettere un lampione in un piccolo parco triangolare in modo che l’intero parco sia illuminato. Dove dovrebbe essere collocato il lampion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0" y="1371600"/>
            <a:ext cx="91440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c042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c0422"/>
                </a:solidFill>
                <a:latin typeface="Times New Roman"/>
              </a:rPr>
              <a:t>Partire da un problema re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Occorre localizzare il punto di un parco in cui mettere un lamp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2133720"/>
            <a:ext cx="72388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c0422"/>
                </a:solidFill>
                <a:latin typeface="Times New Roman"/>
              </a:rPr>
              <a:t>2. Strutturare il problema in base a concetti matematici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l parco può essere rappresentato con un triangolo e l’illuminazione di un lampione come un cerchio con un lampione al cent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0" y="3200400"/>
            <a:ext cx="6553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c0422"/>
                </a:solidFill>
                <a:latin typeface="Times New Roman"/>
              </a:rPr>
              <a:t>3. Formalizzare il problema matematico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Il problema viene riformulato in “localizzare il centro del cerchio circoscritto al triangolo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-457200" y="4191120"/>
            <a:ext cx="8305920" cy="140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c0422"/>
                </a:solidFill>
                <a:latin typeface="Times New Roman"/>
              </a:rPr>
              <a:t>      </a:t>
            </a:r>
            <a:r>
              <a:rPr b="0" lang="it-IT" sz="2400" spc="-1" strike="noStrike">
                <a:solidFill>
                  <a:srgbClr val="fc0422"/>
                </a:solidFill>
                <a:latin typeface="Times New Roman"/>
              </a:rPr>
              <a:t>4. Risolvere il problema matema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Poiché il centro di un cerchio circoscritto a un triangolo giace nel punto di incontro degli assi dei lati del triangolo occorre costruire gli assi su due lati del triangolo. Il loro punto di intersezione è il centro del cerch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0" y="5486400"/>
            <a:ext cx="91440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c0422"/>
                </a:solidFill>
                <a:latin typeface="Times New Roman"/>
              </a:rPr>
              <a:t>5. Tradurre la soluzione matematica in rapporto alla situazione reale</a:t>
            </a: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Si tratta di applicare la soluzione alla situazione reale, considerando le caratteristiche degli angoli, l’ubicazione e la dimensione degli alberi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7238880" y="2666880"/>
            <a:ext cx="762120" cy="4572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7924680" y="3429000"/>
            <a:ext cx="914400" cy="762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3"/>
          <p:cNvSpPr/>
          <p:nvPr/>
        </p:nvSpPr>
        <p:spPr>
          <a:xfrm>
            <a:off x="8001000" y="3429000"/>
            <a:ext cx="762120" cy="5335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14"/>
          <p:cNvSpPr/>
          <p:nvPr/>
        </p:nvSpPr>
        <p:spPr>
          <a:xfrm>
            <a:off x="8153280" y="2590920"/>
            <a:ext cx="762120" cy="68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15"/>
          <p:cNvSpPr/>
          <p:nvPr/>
        </p:nvSpPr>
        <p:spPr>
          <a:xfrm>
            <a:off x="8458200" y="2895480"/>
            <a:ext cx="76320" cy="76320"/>
          </a:xfrm>
          <a:prstGeom prst="ellipse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>
            <a:off x="8229600" y="4876920"/>
            <a:ext cx="22860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8229240" y="4876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COMPETENZA MATEMATICA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compiti autentici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</a:rPr>
              <a:t>(scuola secondaria)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Oval 21"/>
          <p:cNvSpPr/>
          <p:nvPr/>
        </p:nvSpPr>
        <p:spPr>
          <a:xfrm>
            <a:off x="142920" y="1214280"/>
            <a:ext cx="8786880" cy="5529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3143160" y="164304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100" spc="-1" strike="noStrike">
                <a:solidFill>
                  <a:srgbClr val="ff0000"/>
                </a:solidFill>
                <a:latin typeface="Times New Roman"/>
              </a:rPr>
              <a:t>MOTIVAZION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6"/>
          <p:cNvSpPr/>
          <p:nvPr/>
        </p:nvSpPr>
        <p:spPr>
          <a:xfrm>
            <a:off x="3214800" y="3214800"/>
            <a:ext cx="2400120" cy="11430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19"/>
          <p:cNvSpPr/>
          <p:nvPr/>
        </p:nvSpPr>
        <p:spPr>
          <a:xfrm>
            <a:off x="3286080" y="5286240"/>
            <a:ext cx="2286000" cy="102888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571920" y="3357720"/>
            <a:ext cx="171432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META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7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COGNI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8"/>
          <p:cNvSpPr/>
          <p:nvPr/>
        </p:nvSpPr>
        <p:spPr>
          <a:xfrm>
            <a:off x="3643200" y="5572080"/>
            <a:ext cx="1600200" cy="57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7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ORGANIZ-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700" spc="-1" strike="noStrike" u="sng">
                <a:solidFill>
                  <a:srgbClr val="ff6600"/>
                </a:solidFill>
                <a:uFillTx/>
                <a:latin typeface="Times New Roman"/>
                <a:ea typeface="Times New Roman"/>
              </a:rPr>
              <a:t>ZAZIO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1071720" y="2357280"/>
            <a:ext cx="17143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LETTUR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5857920" y="2428920"/>
            <a:ext cx="22860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COMPREN-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S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1000080" y="4429080"/>
            <a:ext cx="18288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UTILIZZO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U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786280" y="4429080"/>
            <a:ext cx="2286000" cy="102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600" spc="-1" strike="noStrike">
                <a:solidFill>
                  <a:srgbClr val="000000"/>
                </a:solidFill>
                <a:latin typeface="Bradley Hand ITC"/>
                <a:ea typeface="Times New Roman"/>
              </a:rPr>
              <a:t>INTERIORIZ-ZAZI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9"/>
          <p:cNvSpPr/>
          <p:nvPr/>
        </p:nvSpPr>
        <p:spPr>
          <a:xfrm flipV="1">
            <a:off x="2857680" y="2643120"/>
            <a:ext cx="29286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0"/>
          <p:cNvSpPr/>
          <p:nvPr/>
        </p:nvSpPr>
        <p:spPr>
          <a:xfrm>
            <a:off x="7000920" y="3429000"/>
            <a:ext cx="46080" cy="107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2928960" y="49291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1"/>
          <p:cNvSpPr/>
          <p:nvPr/>
        </p:nvSpPr>
        <p:spPr>
          <a:xfrm flipV="1">
            <a:off x="1928880" y="3286080"/>
            <a:ext cx="46080" cy="11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0"/>
          <p:cNvSpPr/>
          <p:nvPr/>
        </p:nvSpPr>
        <p:spPr>
          <a:xfrm>
            <a:off x="414360" y="-138240"/>
            <a:ext cx="831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8134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134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134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214200" y="214200"/>
            <a:ext cx="8715600" cy="838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SAPER STUDIAR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rubriche valutativ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(fine scuola prim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42920" y="1214280"/>
          <a:ext cx="8858160" cy="5500800"/>
        </p:xfrm>
        <a:graphic>
          <a:graphicData uri="http://schemas.openxmlformats.org/drawingml/2006/table">
            <a:tbl>
              <a:tblPr/>
              <a:tblGrid>
                <a:gridCol w="2214360"/>
                <a:gridCol w="2214720"/>
                <a:gridCol w="2214720"/>
                <a:gridCol w="2214360"/>
              </a:tblGrid>
              <a:tr h="28584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MENSION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IE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GUA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ZIA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35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’ TECNICA DI LETTU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gge a prima vista in modo corretto, scorrevole ed espressiv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gge a prima vista in modo generalmente corretto, scorrevole ed espressiv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Legge a prima vista in modo poco corretto, senza rispettare la punteggiatura e con un tono di voce piuttosto piat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’ DI COMPRENSIONE DEL BRANO LET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omprende autonomamente ed in maniera immediata il contenuto del brano let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omprende il contenuto del brano let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Comprende il contenuto del brano letto in modo mediato dall’aiuto dell’insegnant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’ DI INTERIORIZZARE LE INFORMAZIONI STUDIA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Interiorizza autonomamente e con sicurezza quanto studia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Interiorizza le informazioni contenute nel brano studiato seguendo le tappe del percorso indica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Interiorizza con qualche difficoltà le informazioni studiate; richiede l’aiuto dell’adult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’ DI UTILIZZARE QUANTO STUDIA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tilizza quanto studiato con sicurezza in altri contesti in modo logico e pertinent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a utilizzare quanto studiato in alcuni contesti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Utilizza in altri contesti quanto studiato non sempre in modo logico e pertinente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’ DI CONOSCERE E DI CONTROLLARE LE CONOSCENZE E LE STRATEGI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Apprende  in modo autonomo ed è consapevole delle strategie adottate per acquisire le conoscenz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Apprende intenzionalmente, sa scegliere le strategie utili per acquisire le conoscenz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Apprende in modo globale e disorganizzato, senza la consapevolezza delle strategie adottate per acquisire le conoscenze.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’ DI ORGANIZZARE L’ATTIVITA’ DELLO STUD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Organizza in modo autonomo e completo la sua attività di studi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Organizza in modo autonomo la sua attività di studio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i organizza per l’attività di studio solo dopo precise indicazioni e sollecitazioni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560"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’ DI MOTIVARE IL LAVORO DA F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i impegna e si applica nello studio in maniera autonoma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i impegna e si applica nello studio a seconda del proprio interesse.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8134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Si applica nell’attività dello studio se l’adulto lo motiva e lo segue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Rectangle 3"/>
          <p:cNvSpPr/>
          <p:nvPr/>
        </p:nvSpPr>
        <p:spPr>
          <a:xfrm>
            <a:off x="214200" y="214200"/>
            <a:ext cx="8715600" cy="838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SAPER STUDIAR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rubriche valutativ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(fine scuola prim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228600" y="1214280"/>
          <a:ext cx="8686800" cy="4983480"/>
        </p:xfrm>
        <a:graphic>
          <a:graphicData uri="http://schemas.openxmlformats.org/drawingml/2006/table">
            <a:tbl>
              <a:tblPr/>
              <a:tblGrid>
                <a:gridCol w="1008000"/>
                <a:gridCol w="2559240"/>
                <a:gridCol w="2714400"/>
                <a:gridCol w="2405160"/>
              </a:tblGrid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Pienam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aggiunto</a:t>
                      </a: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aggiunto</a:t>
                      </a: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Parzialme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aggiunto</a:t>
                      </a: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Tahom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Ascol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capire gli elementi principali in un discorso chiaro in lingua su argomenti fami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capire espressioni e parole di uso molto frequente ed afferrare l’essenziale di messaggi semplici</a:t>
                      </a: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riconoscere parole che mi sono familiari ed espressioni molto semplici riferite a me stesso, alla mia famiglia, al mio ambient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Lettu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capire testi scritti di uso corrente</a:t>
                      </a: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 legati alla vita quotidian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Riesco a leggere testi brevi e semplici e a trovare informazioni essenziali in materiale di uso quotidi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capire i nomi e le persone che mi sono familiari e frasi molto sempli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Parla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descrivere i miei sentimenti, le mie esperienze dirette e indirette, le mie opinion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d usare una serie di espressioni e frasi per descrivere la mia famiglia e la mia vit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usare espressioni e frasi semplici per descrivere il luogo dove abito e la gente che conos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Scrit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scrivere testi semplici e coerenti su argomenti noti e lettere personali sulle mie esperienze ed impression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prendere semplici appunti e a scrivere messaggi su argomenti relativi a bisogni immediati</a:t>
                      </a: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iesco a scrivere una breve e semplice cartolina, ad esempio per mandare i saluti dalle vacanze</a:t>
                      </a:r>
                      <a:r>
                        <a:rPr b="0" lang="it-IT" sz="13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Oval 35"/>
          <p:cNvSpPr/>
          <p:nvPr/>
        </p:nvSpPr>
        <p:spPr>
          <a:xfrm>
            <a:off x="5867280" y="2514600"/>
            <a:ext cx="38124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36"/>
          <p:cNvSpPr/>
          <p:nvPr/>
        </p:nvSpPr>
        <p:spPr>
          <a:xfrm>
            <a:off x="3352680" y="3505320"/>
            <a:ext cx="381240" cy="30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37"/>
          <p:cNvSpPr/>
          <p:nvPr/>
        </p:nvSpPr>
        <p:spPr>
          <a:xfrm>
            <a:off x="5943600" y="4648320"/>
            <a:ext cx="380880" cy="304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38"/>
          <p:cNvSpPr/>
          <p:nvPr/>
        </p:nvSpPr>
        <p:spPr>
          <a:xfrm>
            <a:off x="5410080" y="5867280"/>
            <a:ext cx="38124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Oval 39"/>
          <p:cNvSpPr/>
          <p:nvPr/>
        </p:nvSpPr>
        <p:spPr>
          <a:xfrm>
            <a:off x="5257800" y="4648320"/>
            <a:ext cx="380880" cy="30456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40"/>
          <p:cNvSpPr/>
          <p:nvPr/>
        </p:nvSpPr>
        <p:spPr>
          <a:xfrm>
            <a:off x="8458200" y="1981080"/>
            <a:ext cx="380880" cy="30492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41"/>
          <p:cNvSpPr/>
          <p:nvPr/>
        </p:nvSpPr>
        <p:spPr>
          <a:xfrm>
            <a:off x="6019920" y="3276720"/>
            <a:ext cx="380880" cy="30456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42"/>
          <p:cNvSpPr/>
          <p:nvPr/>
        </p:nvSpPr>
        <p:spPr>
          <a:xfrm>
            <a:off x="5943600" y="5867280"/>
            <a:ext cx="380880" cy="30492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43"/>
          <p:cNvSpPr/>
          <p:nvPr/>
        </p:nvSpPr>
        <p:spPr>
          <a:xfrm>
            <a:off x="380880" y="6400800"/>
            <a:ext cx="381240" cy="304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914400" y="63244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me mi vedo 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5791320" y="6324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Times New Roman"/>
              </a:rPr>
              <a:t>come mi vede l’inseg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46"/>
          <p:cNvSpPr/>
          <p:nvPr/>
        </p:nvSpPr>
        <p:spPr>
          <a:xfrm>
            <a:off x="5257800" y="6400800"/>
            <a:ext cx="380880" cy="304920"/>
          </a:xfrm>
          <a:prstGeom prst="ellipse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214200" y="214200"/>
            <a:ext cx="8715600" cy="838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COMPETENZA IN LINGUA 2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strategie autovalutative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(fine scuola secondaria I gr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500040" y="1714680"/>
            <a:ext cx="817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he cosa aiuta e cosa ostacola il mio apprendiment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09480" y="2638440"/>
            <a:ext cx="34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9900"/>
                </a:solidFill>
                <a:latin typeface="Arial"/>
              </a:rPr>
              <a:t>CHE COSA AIUTA IL MIO APPRENDI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4673520" y="2638440"/>
            <a:ext cx="34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HE COSA OSTACOLA IL MIO APPRENDI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5"/>
          <p:cNvSpPr/>
          <p:nvPr/>
        </p:nvSpPr>
        <p:spPr>
          <a:xfrm>
            <a:off x="228600" y="4267080"/>
            <a:ext cx="416556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6"/>
          <p:cNvSpPr/>
          <p:nvPr/>
        </p:nvSpPr>
        <p:spPr>
          <a:xfrm>
            <a:off x="4572000" y="4267080"/>
            <a:ext cx="4267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7"/>
          <p:cNvSpPr/>
          <p:nvPr/>
        </p:nvSpPr>
        <p:spPr>
          <a:xfrm>
            <a:off x="228600" y="5410080"/>
            <a:ext cx="416556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8"/>
          <p:cNvSpPr/>
          <p:nvPr/>
        </p:nvSpPr>
        <p:spPr>
          <a:xfrm>
            <a:off x="228600" y="6324480"/>
            <a:ext cx="4165560" cy="0"/>
          </a:xfrm>
          <a:prstGeom prst="line">
            <a:avLst/>
          </a:prstGeom>
          <a:ln w="19080">
            <a:solidFill>
              <a:srgbClr val="0099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9"/>
          <p:cNvSpPr/>
          <p:nvPr/>
        </p:nvSpPr>
        <p:spPr>
          <a:xfrm>
            <a:off x="4572000" y="5410080"/>
            <a:ext cx="4267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0"/>
          <p:cNvSpPr/>
          <p:nvPr/>
        </p:nvSpPr>
        <p:spPr>
          <a:xfrm>
            <a:off x="4572000" y="6324480"/>
            <a:ext cx="426708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80880" y="37339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lavorare con gli ami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57200" y="4876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impiegare le immagi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228600" y="579132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insegnanti che mi ascolt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4648320" y="37339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persone che mi disturb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4724280" y="4876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uoghi poco confortev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4495680" y="5867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testi troppo lunghi e compl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14200" y="571680"/>
            <a:ext cx="871560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AUTONOMIA PERSON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strategie autovalutative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(fine scuola secondaria I gra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3"/>
          <p:cNvSpPr/>
          <p:nvPr/>
        </p:nvSpPr>
        <p:spPr>
          <a:xfrm>
            <a:off x="3429000" y="1143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ASCOL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19920" y="1676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INTERAZIONE OR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934320" y="3352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LET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6400800" y="4952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SCRIT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3809880" y="5943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GRAMMA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609480" y="5486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LESS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228600" y="3429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PRONU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380880" y="19051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0099"/>
                </a:solidFill>
                <a:latin typeface="Arial"/>
              </a:rPr>
              <a:t>CORRETTEZZA ORTOGRAF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11"/>
          <p:cNvSpPr/>
          <p:nvPr/>
        </p:nvSpPr>
        <p:spPr>
          <a:xfrm flipV="1">
            <a:off x="4419720" y="15235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12"/>
          <p:cNvSpPr/>
          <p:nvPr/>
        </p:nvSpPr>
        <p:spPr>
          <a:xfrm>
            <a:off x="4419720" y="3581280"/>
            <a:ext cx="22096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13"/>
          <p:cNvSpPr/>
          <p:nvPr/>
        </p:nvSpPr>
        <p:spPr>
          <a:xfrm flipH="1">
            <a:off x="2438280" y="3581280"/>
            <a:ext cx="198144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14"/>
          <p:cNvSpPr/>
          <p:nvPr/>
        </p:nvSpPr>
        <p:spPr>
          <a:xfrm flipH="1">
            <a:off x="2133720" y="35812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5"/>
          <p:cNvSpPr/>
          <p:nvPr/>
        </p:nvSpPr>
        <p:spPr>
          <a:xfrm flipH="1" flipV="1">
            <a:off x="2514600" y="2437920"/>
            <a:ext cx="1905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6"/>
          <p:cNvSpPr/>
          <p:nvPr/>
        </p:nvSpPr>
        <p:spPr>
          <a:xfrm flipV="1">
            <a:off x="4419720" y="228600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4419720" y="35812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8"/>
          <p:cNvSpPr/>
          <p:nvPr/>
        </p:nvSpPr>
        <p:spPr>
          <a:xfrm>
            <a:off x="4419720" y="3657600"/>
            <a:ext cx="22860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9"/>
          <p:cNvSpPr/>
          <p:nvPr/>
        </p:nvSpPr>
        <p:spPr>
          <a:xfrm flipH="1">
            <a:off x="3885840" y="32004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20"/>
          <p:cNvSpPr/>
          <p:nvPr/>
        </p:nvSpPr>
        <p:spPr>
          <a:xfrm>
            <a:off x="4724280" y="32004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38098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2"/>
          <p:cNvSpPr/>
          <p:nvPr/>
        </p:nvSpPr>
        <p:spPr>
          <a:xfrm>
            <a:off x="3886200" y="38862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23"/>
          <p:cNvSpPr/>
          <p:nvPr/>
        </p:nvSpPr>
        <p:spPr>
          <a:xfrm flipH="1">
            <a:off x="434304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24"/>
          <p:cNvSpPr/>
          <p:nvPr/>
        </p:nvSpPr>
        <p:spPr>
          <a:xfrm flipH="1">
            <a:off x="4724280" y="38098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5"/>
          <p:cNvSpPr/>
          <p:nvPr/>
        </p:nvSpPr>
        <p:spPr>
          <a:xfrm flipH="1">
            <a:off x="4266720" y="3124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6"/>
          <p:cNvSpPr/>
          <p:nvPr/>
        </p:nvSpPr>
        <p:spPr>
          <a:xfrm>
            <a:off x="487692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 flipH="1">
            <a:off x="342864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28"/>
          <p:cNvSpPr/>
          <p:nvPr/>
        </p:nvSpPr>
        <p:spPr>
          <a:xfrm flipH="1">
            <a:off x="2971440" y="26668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29"/>
          <p:cNvSpPr/>
          <p:nvPr/>
        </p:nvSpPr>
        <p:spPr>
          <a:xfrm flipH="1">
            <a:off x="426672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30"/>
          <p:cNvSpPr/>
          <p:nvPr/>
        </p:nvSpPr>
        <p:spPr>
          <a:xfrm flipH="1">
            <a:off x="4266720" y="2209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5562720" y="259092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32"/>
          <p:cNvSpPr/>
          <p:nvPr/>
        </p:nvSpPr>
        <p:spPr>
          <a:xfrm>
            <a:off x="5181480" y="28954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54100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594360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35"/>
          <p:cNvSpPr/>
          <p:nvPr/>
        </p:nvSpPr>
        <p:spPr>
          <a:xfrm flipH="1">
            <a:off x="5181480" y="40384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36"/>
          <p:cNvSpPr/>
          <p:nvPr/>
        </p:nvSpPr>
        <p:spPr>
          <a:xfrm flipH="1">
            <a:off x="5638680" y="4343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Line 37"/>
          <p:cNvSpPr/>
          <p:nvPr/>
        </p:nvSpPr>
        <p:spPr>
          <a:xfrm flipH="1">
            <a:off x="441936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38"/>
          <p:cNvSpPr/>
          <p:nvPr/>
        </p:nvSpPr>
        <p:spPr>
          <a:xfrm flipH="1">
            <a:off x="4419360" y="5029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Line 39"/>
          <p:cNvSpPr/>
          <p:nvPr/>
        </p:nvSpPr>
        <p:spPr>
          <a:xfrm>
            <a:off x="3429000" y="41911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40"/>
          <p:cNvSpPr/>
          <p:nvPr/>
        </p:nvSpPr>
        <p:spPr>
          <a:xfrm>
            <a:off x="3048120" y="44197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41"/>
          <p:cNvSpPr/>
          <p:nvPr/>
        </p:nvSpPr>
        <p:spPr>
          <a:xfrm>
            <a:off x="33526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42"/>
          <p:cNvSpPr/>
          <p:nvPr/>
        </p:nvSpPr>
        <p:spPr>
          <a:xfrm>
            <a:off x="2895480" y="3505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43"/>
          <p:cNvSpPr/>
          <p:nvPr/>
        </p:nvSpPr>
        <p:spPr>
          <a:xfrm flipV="1">
            <a:off x="4419720" y="2971440"/>
            <a:ext cx="76176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44"/>
          <p:cNvSpPr/>
          <p:nvPr/>
        </p:nvSpPr>
        <p:spPr>
          <a:xfrm>
            <a:off x="5181480" y="2971800"/>
            <a:ext cx="76212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45"/>
          <p:cNvSpPr/>
          <p:nvPr/>
        </p:nvSpPr>
        <p:spPr>
          <a:xfrm flipV="1">
            <a:off x="5257800" y="3581280"/>
            <a:ext cx="68580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46"/>
          <p:cNvSpPr/>
          <p:nvPr/>
        </p:nvSpPr>
        <p:spPr>
          <a:xfrm flipV="1">
            <a:off x="4572000" y="41148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Line 47"/>
          <p:cNvSpPr/>
          <p:nvPr/>
        </p:nvSpPr>
        <p:spPr>
          <a:xfrm>
            <a:off x="3505320" y="4267080"/>
            <a:ext cx="106668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48"/>
          <p:cNvSpPr/>
          <p:nvPr/>
        </p:nvSpPr>
        <p:spPr>
          <a:xfrm flipH="1">
            <a:off x="3505320" y="3581280"/>
            <a:ext cx="30456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9"/>
          <p:cNvSpPr/>
          <p:nvPr/>
        </p:nvSpPr>
        <p:spPr>
          <a:xfrm>
            <a:off x="3505320" y="3048120"/>
            <a:ext cx="304560" cy="533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50"/>
          <p:cNvSpPr/>
          <p:nvPr/>
        </p:nvSpPr>
        <p:spPr>
          <a:xfrm>
            <a:off x="3505320" y="3048120"/>
            <a:ext cx="91440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51"/>
          <p:cNvSpPr/>
          <p:nvPr/>
        </p:nvSpPr>
        <p:spPr>
          <a:xfrm flipH="1">
            <a:off x="5714640" y="3581280"/>
            <a:ext cx="152280" cy="8384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52"/>
          <p:cNvSpPr/>
          <p:nvPr/>
        </p:nvSpPr>
        <p:spPr>
          <a:xfrm>
            <a:off x="4495680" y="2666880"/>
            <a:ext cx="762120" cy="3049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53"/>
          <p:cNvSpPr/>
          <p:nvPr/>
        </p:nvSpPr>
        <p:spPr>
          <a:xfrm flipH="1">
            <a:off x="3352680" y="3048120"/>
            <a:ext cx="152640" cy="53316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54"/>
          <p:cNvSpPr/>
          <p:nvPr/>
        </p:nvSpPr>
        <p:spPr>
          <a:xfrm>
            <a:off x="3124080" y="4495680"/>
            <a:ext cx="1447920" cy="5335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55"/>
          <p:cNvSpPr/>
          <p:nvPr/>
        </p:nvSpPr>
        <p:spPr>
          <a:xfrm flipH="1">
            <a:off x="3123720" y="3581280"/>
            <a:ext cx="228600" cy="91440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6"/>
          <p:cNvSpPr/>
          <p:nvPr/>
        </p:nvSpPr>
        <p:spPr>
          <a:xfrm flipV="1">
            <a:off x="3581280" y="2666520"/>
            <a:ext cx="838440" cy="381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57"/>
          <p:cNvSpPr/>
          <p:nvPr/>
        </p:nvSpPr>
        <p:spPr>
          <a:xfrm>
            <a:off x="5257800" y="3048120"/>
            <a:ext cx="609480" cy="609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58"/>
          <p:cNvSpPr/>
          <p:nvPr/>
        </p:nvSpPr>
        <p:spPr>
          <a:xfrm flipH="1">
            <a:off x="4571640" y="4419720"/>
            <a:ext cx="1143000" cy="60948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59"/>
          <p:cNvSpPr/>
          <p:nvPr/>
        </p:nvSpPr>
        <p:spPr>
          <a:xfrm flipH="1">
            <a:off x="533520" y="6248520"/>
            <a:ext cx="4572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60"/>
          <p:cNvSpPr/>
          <p:nvPr/>
        </p:nvSpPr>
        <p:spPr>
          <a:xfrm>
            <a:off x="1371600" y="60958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otto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61"/>
          <p:cNvSpPr/>
          <p:nvPr/>
        </p:nvSpPr>
        <p:spPr>
          <a:xfrm flipH="1">
            <a:off x="533520" y="6629400"/>
            <a:ext cx="4572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62"/>
          <p:cNvSpPr/>
          <p:nvPr/>
        </p:nvSpPr>
        <p:spPr>
          <a:xfrm>
            <a:off x="1371600" y="64008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dicem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0" y="428760"/>
            <a:ext cx="878688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LINGUA 2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strategie autovalutative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</a:rPr>
              <a:t>(scuola secondaria I grado)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0" y="1643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Times New Roman"/>
              </a:rPr>
              <a:t>ANALISI CRITICA DI LAVORI ESEMPLA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0" y="2741760"/>
            <a:ext cx="33526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quando è stato fat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perché è stato fat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da chi è stato fat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con quali aiut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con quali materiali/risors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come è stato fat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0000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0000cc"/>
                </a:solidFill>
                <a:latin typeface="Arial"/>
              </a:rPr>
              <a:t>quali collegamenti con altri lavor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3200400" y="2786040"/>
            <a:ext cx="59436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perché l’ho scelt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che cosa dimostra che so/so far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che cosa dimostra che devo migliorare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quali progressi ci sono rispetto ai lavori precedenti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che cosa ho imparato da questo lavor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su cosa ho dato il meglio di me stesso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buClr>
                <a:srgbClr val="cc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it-IT" sz="2200" spc="-1" strike="noStrike">
                <a:solidFill>
                  <a:srgbClr val="cc0099"/>
                </a:solidFill>
                <a:latin typeface="Arial"/>
              </a:rPr>
              <a:t>su cosa devo dare di più?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85840" y="2286000"/>
            <a:ext cx="335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2d2db9"/>
                </a:solidFill>
                <a:latin typeface="Arial"/>
              </a:rPr>
              <a:t>CONDIZIONI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4643280" y="2214720"/>
            <a:ext cx="33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RIFLESSIONE CRI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214200" y="571680"/>
            <a:ext cx="878688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SAPER STUDIA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strategie autovalutative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</a:rPr>
              <a:t>(scuola secondaria I grado)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1071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80"/>
                </a:solidFill>
                <a:latin typeface="Times New Roman"/>
              </a:rPr>
              <a:t>CONTROLLO ALL’I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357120" y="1571760"/>
          <a:ext cx="8458200" cy="5124240"/>
        </p:xfrm>
        <a:graphic>
          <a:graphicData uri="http://schemas.openxmlformats.org/drawingml/2006/table">
            <a:tbl>
              <a:tblPr/>
              <a:tblGrid>
                <a:gridCol w="3429000"/>
                <a:gridCol w="533520"/>
                <a:gridCol w="533520"/>
                <a:gridCol w="533160"/>
                <a:gridCol w="3429000"/>
              </a:tblGrid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concentr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enso ad alt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rilassato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ansio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dero essere qu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idero essere altrov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feli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tris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atti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passiv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eccit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annoia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l tempo corr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l tempo è fer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6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pieno di energ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vuoto di energ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 sento con gli altr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i sento sol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disponi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no irritabil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5" name="Rectangle 4"/>
          <p:cNvSpPr/>
          <p:nvPr/>
        </p:nvSpPr>
        <p:spPr>
          <a:xfrm>
            <a:off x="0" y="285840"/>
            <a:ext cx="914400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RICONOSCERE LE PROPRIE SPECIFICITÀ E POTENZIALITÀ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strategie autovalutative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</a:rPr>
              <a:t>(fine scuola prim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UNO SGUARDO TRIF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304920" y="1905120"/>
            <a:ext cx="2209680" cy="45972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OGG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5867280" y="1905120"/>
            <a:ext cx="312444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INTERSOGG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276720" y="3581280"/>
            <a:ext cx="2286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OGG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0" y="4343400"/>
            <a:ext cx="266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ISTANZA AUTOVALU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6477120" y="42670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ISTANZA 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3200400" y="57913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ISTANZA EMPI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9"/>
          <p:cNvSpPr/>
          <p:nvPr/>
        </p:nvSpPr>
        <p:spPr>
          <a:xfrm>
            <a:off x="1371600" y="2438280"/>
            <a:ext cx="0" cy="91440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4343400" y="4114800"/>
            <a:ext cx="0" cy="762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7620120" y="2438280"/>
            <a:ext cx="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666880" y="2133720"/>
            <a:ext cx="3048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2666880" y="22096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 flipV="1">
            <a:off x="4267080" y="2285640"/>
            <a:ext cx="1371600" cy="121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228600" y="3352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cc0099"/>
                </a:solidFill>
                <a:latin typeface="Arial"/>
              </a:rPr>
              <a:t>significati person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3200400" y="48769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videnze osserva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6477120" y="33526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sistema di att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9"/>
          <p:cNvSpPr/>
          <p:nvPr/>
        </p:nvSpPr>
        <p:spPr>
          <a:xfrm>
            <a:off x="3059280" y="213372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DEA DI COMPETE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20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VALUTARE LE COMPETENZE: LA PRO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"/>
                            </p:stCondLst>
                            <p:childTnLst>
                              <p:par>
                                <p:cTn id="19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500"/>
                            </p:stCondLst>
                            <p:childTnLst>
                              <p:par>
                                <p:cTn id="21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0" y="7142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UNO SGUARDO TRIFOCALE: REPERTORIO DI STRU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190512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AUTO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6156360" y="191628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ETEROVALUT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2771640" y="3573360"/>
            <a:ext cx="33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ANALISI PREST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304920" y="3429000"/>
            <a:ext cx="22860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Diario di bor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Autobiograf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99"/>
                </a:solidFill>
                <a:latin typeface="Arial"/>
              </a:rPr>
              <a:t>Strategie autovalutativ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3132000" y="213372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UBRICA VALUT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2627280" y="5105520"/>
            <a:ext cx="35290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Compiti auten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rove di ver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Selezione lav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"/>
          <p:cNvSpPr/>
          <p:nvPr/>
        </p:nvSpPr>
        <p:spPr>
          <a:xfrm>
            <a:off x="1403280" y="2349360"/>
            <a:ext cx="0" cy="986040"/>
          </a:xfrm>
          <a:prstGeom prst="line">
            <a:avLst/>
          </a:prstGeom>
          <a:ln w="93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Line 10"/>
          <p:cNvSpPr/>
          <p:nvPr/>
        </p:nvSpPr>
        <p:spPr>
          <a:xfrm>
            <a:off x="4427640" y="407664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11"/>
          <p:cNvSpPr/>
          <p:nvPr/>
        </p:nvSpPr>
        <p:spPr>
          <a:xfrm>
            <a:off x="7543800" y="2590920"/>
            <a:ext cx="0" cy="9144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12"/>
          <p:cNvSpPr/>
          <p:nvPr/>
        </p:nvSpPr>
        <p:spPr>
          <a:xfrm>
            <a:off x="2666880" y="213372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13"/>
          <p:cNvSpPr/>
          <p:nvPr/>
        </p:nvSpPr>
        <p:spPr>
          <a:xfrm>
            <a:off x="2666880" y="2209680"/>
            <a:ext cx="175284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4"/>
          <p:cNvSpPr/>
          <p:nvPr/>
        </p:nvSpPr>
        <p:spPr>
          <a:xfrm flipV="1">
            <a:off x="4419720" y="2209320"/>
            <a:ext cx="1676160" cy="1295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6443640" y="36450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Osservazioni in itin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6372360" y="443700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Commenti docenti e genit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6443640" y="530064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Arial"/>
              </a:rPr>
              <a:t>Interazioni           tra p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VALUTARE LE COMPETENZE: LA PRO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16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VALUTARE LE COMPETENZE: I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Object 2"/>
          <p:cNvGraphicFramePr/>
          <p:nvPr/>
        </p:nvGraphicFramePr>
        <p:xfrm>
          <a:off x="0" y="1143000"/>
          <a:ext cx="9144000" cy="5715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4300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8"/>
          <p:cNvSpPr/>
          <p:nvPr/>
        </p:nvSpPr>
        <p:spPr>
          <a:xfrm>
            <a:off x="5857920" y="2500200"/>
            <a:ext cx="216072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E COSA SI APPRE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143760" y="4429080"/>
            <a:ext cx="2160360" cy="703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COME SI APPREN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’ICEBERG DELLA COMPETE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0" y="1676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cc"/>
                </a:solidFill>
                <a:latin typeface="Arial"/>
              </a:rPr>
              <a:t>SIGNIFICATIVITA’ DEI COMPITI VALUTATIVI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RESPONSABILIZZAZIONE DELLO STUD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0" y="3429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cc"/>
                </a:solidFill>
                <a:latin typeface="Arial"/>
              </a:rPr>
              <a:t>INTEGRAZIONE PROCESSO/PRODOTTO</a:t>
            </a:r>
            <a:r>
              <a:rPr b="0" lang="it-IT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SUPERAMENTO CONFINI DISCIPLINA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0" y="78588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QUALI SFIDE PER LA VALUTAZIO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0" y="5257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cc00cc"/>
                </a:solidFill>
                <a:latin typeface="Arial"/>
              </a:rPr>
              <a:t>VALENZA METACOGNITIVA DELLA VALUT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9"/>
          <p:cNvSpPr/>
          <p:nvPr/>
        </p:nvSpPr>
        <p:spPr>
          <a:xfrm>
            <a:off x="0" y="59119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“</a:t>
            </a:r>
            <a:r>
              <a:rPr b="1" i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Si tratta di accertare non ciò che lo studente sa, ma ciò che sa fare con ciò che sa.</a:t>
            </a:r>
            <a:r>
              <a:rPr b="1" lang="it-IT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”                                 (Wiggins, 1993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Times New Roman"/>
              </a:rPr>
              <a:t>VALUTARE LE COMPET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2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7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fum 4ok"/>
          <p:cNvPicPr/>
          <p:nvPr/>
        </p:nvPicPr>
        <p:blipFill>
          <a:blip r:embed="rId1"/>
          <a:stretch/>
        </p:blipFill>
        <p:spPr>
          <a:xfrm>
            <a:off x="2085840" y="228600"/>
            <a:ext cx="4687920" cy="64771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60" name="Text Box 3"/>
          <p:cNvSpPr/>
          <p:nvPr/>
        </p:nvSpPr>
        <p:spPr>
          <a:xfrm rot="16911000">
            <a:off x="-2435400" y="3191400"/>
            <a:ext cx="6858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VALUTARE LE COMPETEN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 rot="16911000">
            <a:off x="4422240" y="3191400"/>
            <a:ext cx="6858000" cy="45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SFIDE APE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571680"/>
            <a:ext cx="9144000" cy="65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 domandavo se la scienza alla quale mi ero affidato non fosse in fondo cieca come lo sono in una vecchia storia indiana i cinque protagonisti cui viene chiesto di descrivere un elefante. Il primo cieco si avvicina all’animale e gli tocca le gambe: “L’elefante è come un tempio e queste sono le colonne”, dice. Il secondo tocca la proboscide e dice che l’elefante è come un serpente. Il terzo cieco tocca la pancia del pachiderma e sostiene che l’elefante è come una montagna. Il quarto tocca un orecchio e dice che l’elefante è come un ventaglio. L’ultimo cieco, annaspando, prende in mano la coda e dice: “L’elefante è come una  frusta!” Ogni definizione ha qualcosa di giusto, ma l’elefante non viene mai fuori per quel che è davvero.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(T. Terzani  “Un altro giro di giostra”, Milano, Longanesi 2004,p.84</a:t>
            </a:r>
            <a:r>
              <a:rPr b="0" i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0" y="0"/>
            <a:ext cx="9144000" cy="3988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Times New Roman"/>
              </a:rPr>
              <a:t>VALUTARE LE COMPETENZE: IL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7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1562400"/>
            <a:ext cx="914400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Soggetti coinvolti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bambini di 6 anni, genitori dei bambini nuovi iscrit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Tempo di svolgim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al mattino,durante il momento del preinseri-mento dei bambini che inizieranno la frequenza il prossimo an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Dinamica dello svolgimento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: ciascun bambino frequentante l’ultimo anno della scuola dell’infanzia accompagna un genitore e mostra la casellina dove ripone i disegni e gli effetti personali, la casellina dove mette lo zainetto, l’attaccapanni dove mette la giacca e ne spiega l’utiliz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stra poi come ci si deve comportare in bagno nell’utilizzo dei servizi igienici  e nel lavare le mani verbalizzando le varie fa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449280"/>
                <a:tab algn="ctr" pos="3060720"/>
                <a:tab algn="r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Mostra e spiega il modo di utilizzare gli angoli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85840" y="285840"/>
            <a:ext cx="844380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AUTONOMIA PERSONAL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compiti autentic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  <a:ea typeface="Times New Roman"/>
              </a:rPr>
              <a:t>(fine scuola infanz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2514600" y="1363680"/>
            <a:ext cx="6629400" cy="5769360"/>
          </a:xfrm>
          <a:prstGeom prst="rect">
            <a:avLst/>
          </a:prstGeom>
          <a:noFill/>
          <a:ln w="9360">
            <a:solidFill>
              <a:srgbClr val="ff66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663300"/>
                </a:solidFill>
                <a:uFillTx/>
                <a:latin typeface="Berlin Sans FB"/>
              </a:rPr>
              <a:t>Incontro con il lib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I bambini con il gruppo classe vanno in biblioteca e scoprono “il libro” e il piacere della lettura di storie diverse. Successivamente ne scelgono uno con l’impegno di leggerlo. Dopo varie attività svolte in classe ogni bambino sceglie un libro, o una parte di esso che più gli è piaciuto, tra quelli letti,  e lo presenta ai compagni nella modalità a lui più congenia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Esempi di prestazion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33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Racconto della sto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33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Lettura di una pagina che più lo ha emoziona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33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Disegno/collage/immagini rappresentativ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33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Articolo sul giornale della scuol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33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Semplice iperte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33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Animazione di una parte let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663300"/>
              </a:buClr>
              <a:buFont typeface="Berlin Sans FB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3300"/>
                </a:solidFill>
                <a:latin typeface="Berlin Sans FB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h_girlreadingbook"/>
          <p:cNvPicPr/>
          <p:nvPr/>
        </p:nvPicPr>
        <p:blipFill>
          <a:blip r:embed="rId1"/>
          <a:stretch/>
        </p:blipFill>
        <p:spPr>
          <a:xfrm>
            <a:off x="500040" y="1643040"/>
            <a:ext cx="1828800" cy="996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0" y="285840"/>
            <a:ext cx="914400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RICONOSCERE LE PROPRIE SPECIFICITÀ E POTENZIALITÀ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compiti autentici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</a:rPr>
              <a:t>(fine scuola prima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33520" y="2362320"/>
          <a:ext cx="8076960" cy="4155840"/>
        </p:xfrm>
        <a:graphic>
          <a:graphicData uri="http://schemas.openxmlformats.org/drawingml/2006/table">
            <a:tbl>
              <a:tblPr/>
              <a:tblGrid>
                <a:gridCol w="1904760"/>
                <a:gridCol w="2057400"/>
                <a:gridCol w="2057400"/>
                <a:gridCol w="2057400"/>
              </a:tblGrid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Pienamen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aggiunto</a:t>
                      </a: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aggiunto</a:t>
                      </a: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Parzialment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raggiunto</a:t>
                      </a: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1368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Conosce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di s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Esprime le proprie preferenze motivando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Esprime le proprie preferenz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Non sempre esprime le proprie preferen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Conoscenz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del proprio modo di ess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Esprime le emozioni che la lettura ha suscita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Motiva le proprie emozioni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Va aiutato a riconoscere le emozioni suscita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Consapevolezza delle proprie scel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Sceglie il libro in base al proprio interess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Sceglie un libro su consiglio di un compagno o dell’insegnante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Va stimolato a scegliere un libro che gli piac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5760">
                      <a:solidFill>
                        <a:srgbClr val="9933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993300"/>
                          </a:solidFill>
                          <a:latin typeface="Verdana"/>
                          <a:ea typeface="Times New Roman"/>
                        </a:rPr>
                        <a:t>Capacità di scelta e di giudiz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Esprime un parere personale motivando la tipologia e la modalità di lettur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Esprime un parere personale in merito alla lettura fatt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576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993300"/>
                          </a:solidFill>
                          <a:latin typeface="Verdana"/>
                        </a:rPr>
                        <a:t>Esprime con fatica il proprio parer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3300"/>
                      </a:solidFill>
                    </a:lnL>
                    <a:lnR w="13680">
                      <a:solidFill>
                        <a:srgbClr val="993300"/>
                      </a:solidFill>
                    </a:lnR>
                    <a:lnT w="5760">
                      <a:solidFill>
                        <a:srgbClr val="993300"/>
                      </a:solidFill>
                    </a:lnT>
                    <a:lnB w="13680">
                      <a:solidFill>
                        <a:srgbClr val="9933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74" name="Picture 34" descr="h_girlreadingbook"/>
          <p:cNvPicPr/>
          <p:nvPr/>
        </p:nvPicPr>
        <p:blipFill>
          <a:blip r:embed="rId13"/>
          <a:stretch/>
        </p:blipFill>
        <p:spPr>
          <a:xfrm>
            <a:off x="3429000" y="1357200"/>
            <a:ext cx="1828800" cy="997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5"/>
          <p:cNvSpPr/>
          <p:nvPr/>
        </p:nvSpPr>
        <p:spPr>
          <a:xfrm>
            <a:off x="428760" y="500040"/>
            <a:ext cx="822960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1600" spc="-1" strike="noStrike">
                <a:solidFill>
                  <a:srgbClr val="ff0000"/>
                </a:solidFill>
                <a:latin typeface="Berlin Sans FB"/>
              </a:rPr>
              <a:t>FOCUS FORMATIVO -  Riconoscere le proprie specificità e potenzialità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Berlin Sans FB"/>
              </a:rPr>
              <a:t>Elaborazione compiti autentici </a:t>
            </a:r>
            <a:r>
              <a:rPr b="0" lang="it-IT" sz="1600" spc="-1" strike="noStrike">
                <a:solidFill>
                  <a:srgbClr val="000000"/>
                </a:solidFill>
                <a:latin typeface="Berlin Sans FB"/>
              </a:rPr>
              <a:t>(fine scuola primaria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5"/>
          <p:cNvSpPr/>
          <p:nvPr/>
        </p:nvSpPr>
        <p:spPr>
          <a:xfrm>
            <a:off x="357120" y="500040"/>
            <a:ext cx="842976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it-IT" sz="1600" spc="-1" strike="noStrike">
                <a:solidFill>
                  <a:srgbClr val="ff0000"/>
                </a:solidFill>
                <a:latin typeface="Berlin Sans FB"/>
              </a:rPr>
              <a:t>FOCUS FORMATIVO -  GEOGRAFIA E STORIA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Berlin Sans FB"/>
              </a:rPr>
              <a:t>Elaborazione compiti autentici </a:t>
            </a:r>
            <a:r>
              <a:rPr b="0" lang="it-IT" sz="1600" spc="-1" strike="noStrike">
                <a:solidFill>
                  <a:srgbClr val="000000"/>
                </a:solidFill>
                <a:latin typeface="Berlin Sans FB"/>
              </a:rPr>
              <a:t>(fine scuola primaria)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CasellaDiTesto 13"/>
          <p:cNvSpPr/>
          <p:nvPr/>
        </p:nvSpPr>
        <p:spPr>
          <a:xfrm>
            <a:off x="142920" y="1500120"/>
            <a:ext cx="871524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ETTA UN VIAGGIO IN UNA REGIONE STUDIATA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ogliere materiale sulla regione da visitare (carte geografiche, orari mezzi di trasporto, guida turistica…)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ccogliere informazioni sui mezzi di trasporto disponibili per raggiungere la meta stabilita (es. Se utilizzi l’aereo da quale aeroporto della Lombardia parti e dove arrivi…)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re i luoghi più interessanti da visitare usando la guida turistic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traverso la lettura di grafici, tabelle (tabelle climatiche) individuare il tipo di abbigliamento da utilizzare,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84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it-IT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are, dopo aver osservato le caratteristiche climatiche e territoriali, coltivazioni e attività economich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1643040"/>
            <a:ext cx="9144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po aver trattato in classe prima il tema “ Il ciclo dell’acqua”  in varie discipline ed aver sperimentato nel biennio diverse modalità di comunicazione di contenuti appresi    (relazione orale/ cartelloni/ slides, ecc) si richiede di progettare una presentazione dell’argomento in occasione dell’incontro di accoglienza degli alunni di quinta elementare. Il progetto deve indicare : una ipotesi del tempo necessario sia   alla realizzazione della presentazione sia alla comunicazione della stessa ( informazione quest’ultima necessaria per la convocazione delle classi); il modo/ i modi prescelti per rendere efficace e chiara la comunicazione; le informazioni selezionate che si ritiene di trasmettere; i materiali e gli strumenti necessari alla realizzazione del proget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seconda battuta si richiede a ciascun alunno di portare il necessario per realizzare il progetto di presentazione e lo si fa realizz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357120"/>
            <a:ext cx="9144000" cy="838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AUTONOMIA PERSONAL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compiti autentici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</a:rPr>
              <a:t>(fine seconda sec. I grado)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785880"/>
          <a:ext cx="9001080" cy="5857920"/>
        </p:xfrm>
        <a:graphic>
          <a:graphicData uri="http://schemas.openxmlformats.org/drawingml/2006/table">
            <a:tbl>
              <a:tblPr/>
              <a:tblGrid>
                <a:gridCol w="1254240"/>
                <a:gridCol w="2655720"/>
                <a:gridCol w="2656080"/>
                <a:gridCol w="24350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ME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VELLO PIE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VELLO ADEGU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IVELLO PARZI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O DEGLI STRU MEN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scelto una gran varietà di  strumenti e materiali  adatti per la realizzazione del progetto e li ha portati con 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scelto un discreto numero di strumenti  e materiali opportuni per la realizzazione del progetto e li ha portati con s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scelto un numero piuttosto limitato di strumenti e materiali adatti alla realizzazione del progetto e non tutti li ha portati con sé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O DEL TEM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previsto per la comunicazione  un tempo coerente col materiale o con i percorsi conoscitivi offer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previsto per la comunicazione  un tempo eccessivo o limitato rispetto ai materiali o ai percorsi offer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previsto per la comunicazione  un tempo molto discordante con  il materiale o con i percorsi conoscitivi offert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O DELLE CO NOSCEN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saputo selezionare  tutte le informazioni utili alla comprensione dell’argomen to ed ha inserito qualche ap profondimento opportuno.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selezionato gran parte delle informazioni utili alla comprensione dell’argo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 selezionato una quantità di informazioni inadeguata alla trattazione dell’argoment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SO DELLE PROCE D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la presentazione dell’ar gomento ha previsto e realiz zato una gran varietà di modi (verbale/grafico-simbolico/ telematico/sperimentale,ecc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la presentazione dell’argomento ha utilizzato e realizzato almeno due tipi di modalità: verbale e grafico-simbolic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r la presentazione dell’argomento ha previsto solo la modalità verbale di comunica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sp>
        <p:nvSpPr>
          <p:cNvPr id="81" name="Rectangle 3"/>
          <p:cNvSpPr/>
          <p:nvPr/>
        </p:nvSpPr>
        <p:spPr>
          <a:xfrm>
            <a:off x="0" y="0"/>
            <a:ext cx="9001080" cy="8380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Berlin Sans FB"/>
              </a:rPr>
              <a:t>FOCUS FORMATIVO -  Autonomia personale</a:t>
            </a:r>
            <a:br>
              <a:rPr sz="1800"/>
            </a:br>
            <a:r>
              <a:rPr b="1" lang="it-IT" sz="1800" spc="-1" strike="noStrike">
                <a:solidFill>
                  <a:srgbClr val="000000"/>
                </a:solidFill>
                <a:latin typeface="Berlin Sans FB"/>
              </a:rPr>
              <a:t>Elaborazione compiti autentici </a:t>
            </a:r>
            <a:r>
              <a:rPr b="0" lang="it-IT" sz="1800" spc="-1" strike="noStrike">
                <a:solidFill>
                  <a:srgbClr val="000000"/>
                </a:solidFill>
                <a:latin typeface="Berlin Sans FB"/>
              </a:rPr>
              <a:t>(fine seconda sec. I grado)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3:45:22Z</dcterms:created>
  <dc:creator>IRRSAE Lombardia</dc:creator>
  <dc:description/>
  <dc:language>en-US</dc:language>
  <cp:lastModifiedBy>Mario</cp:lastModifiedBy>
  <dcterms:modified xsi:type="dcterms:W3CDTF">2008-04-23T16:49:27Z</dcterms:modified>
  <cp:revision>208</cp:revision>
  <dc:subject/>
  <dc:title>Presentazione di PowerPoint</dc:title>
</cp:coreProperties>
</file>